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640-A7CA-4192-8B8A-E0548825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9E3-3B63-402D-A0D7-1BDD7835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9D8-9866-4405-890C-E350B013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1F4-D70B-4DE0-AA66-53387A69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A246-E948-4F8C-B005-BEE397AD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C6F9-84B3-4AD3-88B5-C5F3FC09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C04F-6B9E-497D-B2AB-6350E097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39AB-A6DC-4DE2-AF2B-C652A8BA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94E2-3D26-4790-8C02-DA2EDB67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3C51-B3C9-42C5-96F2-862FA714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23C1-BD79-4261-B6B4-075B7383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A66-D10B-4EDF-AF56-F23A8381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0D71-7789-4AE8-99E6-2223A32B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80E6-02B2-4321-A3A5-CB42499D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C49A-8F5C-4F32-834E-E1880FD7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84B7-CB5C-4AE5-A6EF-90B157B4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9288-2D41-4618-9880-501428A4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46F-97FB-46AC-A5A5-80CAA141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908-5905-46F1-A5C7-24748833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8707-3C7F-42C5-895E-5FEAA480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F3B-0BF5-4CA2-BA93-4D976883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890-7E1B-44BB-B49A-4C2792C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F75-E8A4-4E56-9911-6F204F9C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34F-FCB4-41CD-B2C7-0F657EC1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8F30-4EA2-4FC4-951A-36B067A187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B69D-8A6A-4A0F-BE3E-E8FDE855B4B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66"/>
                </a:solidFill>
                <a:latin typeface="Arial"/>
              </a:rPr>
              <a:t>EDUCATION </a:t>
            </a:r>
            <a:br>
              <a:rPr sz="8000"/>
            </a:br>
            <a:r>
              <a:rPr b="0" lang="en-US" sz="8000" spc="-1" strike="noStrike">
                <a:solidFill>
                  <a:srgbClr val="ffcc66"/>
                </a:solidFill>
                <a:latin typeface="Arial"/>
              </a:rPr>
              <a:t>in GREAT BRITAI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ecture 6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Open Univers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ioneer in Distance Edu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rted in 196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udy for a degre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s are taught via TV, radio, the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number of students is more than 200 000 stud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versity Degre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Bachelor’s Degre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BA = B.of A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 B.of Sciences) – a first (undergraduate) deg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Master’s Degre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MA = M. of A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S = M.of Scienc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a second (graduate) deg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Doctora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the highest academic qualification (PhD = Doctor of Philosoph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tish system of education ha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3 stages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e-school (nursery) (3-4 year olds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primary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(5-11 years of age),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secondary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(11-16 years of age),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higher and further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4400" spc="-1" strike="noStrike">
                <a:solidFill>
                  <a:srgbClr val="ffcc66"/>
                </a:solidFill>
                <a:latin typeface="Verdana"/>
              </a:rPr>
              <a:t>tertiary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) (18 and over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chool education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pulsory free education at the school level (5% of pupils attend private schools*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chools are mostly mixe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t is not strictly centralised, mostly organised by Local Educational Authorities (LEA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nly in 1988 the National Curriculum was introduced in Englan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*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blic = Privat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using terminolog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blic schools (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in the meaning the term is used in the USA and elsewhere in the wor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i="1" lang="en-US" sz="3200" spc="-1" strike="noStrike">
                <a:solidFill>
                  <a:srgbClr val="33cccc"/>
                </a:solidFill>
                <a:latin typeface="Verdana"/>
              </a:rPr>
              <a:t>in Britain are called “state school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vate</a:t>
            </a: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s (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in the meaning it is used in the USA and elsewhere in the worl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i="1" lang="en-US" sz="3200" spc="-1" strike="noStrike">
                <a:solidFill>
                  <a:srgbClr val="33cccc"/>
                </a:solidFill>
                <a:latin typeface="Verdana"/>
              </a:rPr>
              <a:t>in Britain are called “public school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ional Curricul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 Englan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consists of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ore subject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ulsory for 5-16-year-olds: English, math and sciences and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foundation subjects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ology, history, geography, music, art and modern langu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Wa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like in England but Welsh is a core subject in Welsh-speaking schoo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Scotlan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o unified curriculum but educational authorities recommend that schools should follow a broad and balanced curricul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a compulsory curriculum made up of religious education and 6 broad areas of study. Also includes 4 compulsory cross-cultural them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INCIPLES OF PUBLIC  EXAM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exams are not set by the government but rather by independent examining boar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boards publish a separate syllabus for each subject. There is no unified school-leaving exam or school-leaving certific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exams have nothing to do with school years as such. They are divorced from the school system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tegories of public exa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CSE = General Certificate of Secondary Education. The exams taken by most 15- to 16-year-olds in England, Wales, and Northern Ire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E = Scottish Certificate of Edu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-levels = Advanced Levels. Higher-level academic exams set by the same examining boards that set GCSE exams. They are taken mostly by people around 18 who wish to go on to higher edu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E ‘Highers’ = The Scottish equivalent of A-leve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ixth F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pils finish school at 16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iversities enroll students no younger that 18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ose, who wish to join universities and still under 18,  study in the sixth form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VERSITI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Oxbrid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12-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.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The old Scottish universit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15-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.c.(Glasgow, Edinburgh, Aberdeen, St.Andrew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The early 19-th century English universit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Durham Univ., the Univ. of London et 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The “redbrick” universit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Birmingham, Manchester, Leeds et 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The newer civic universiti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cal colleg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politechnics→universiti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6:50:37Z</dcterms:created>
  <dc:creator>ALLA</dc:creator>
  <dc:description/>
  <dc:language>en-US</dc:language>
  <cp:lastModifiedBy>ALLA</cp:lastModifiedBy>
  <dcterms:modified xsi:type="dcterms:W3CDTF">2008-04-28T09:14:43Z</dcterms:modified>
  <cp:revision>19</cp:revision>
  <dc:subject/>
  <dc:title>EDUCATION  in GREAT BRITAIN</dc:title>
</cp:coreProperties>
</file>